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683091"/>
        <c:axId val="44136992"/>
      </c:barChart>
      <c:catAx>
        <c:axId val="22683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6992"/>
        <c:crosses val="autoZero"/>
        <c:auto val="1"/>
        <c:lblAlgn val="ctr"/>
        <c:lblOffset val="100"/>
        <c:noMultiLvlLbl val="0"/>
      </c:catAx>
      <c:valAx>
        <c:axId val="44136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83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376-7541-45A9-8E68-B08576E6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D99-082F-4164-922F-D80B35EA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CB0-C87C-46EF-9586-23B7322C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0592-5F7D-43D0-A48B-C3EAFB34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5CF2-FAEA-44C6-B9B0-223C97E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BACB-D5F2-4D24-AFA1-0DE10E5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15B-E322-40F9-BFCE-3616F071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3F0-E10F-445C-8F13-EA1EBA46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737-79EA-4005-A05E-F0FF70E75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2EF-D23C-4616-87E8-9AC2CBE4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F1CF-A08B-446C-9645-2C2F4294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378D-A478-4E52-BC9B-99798356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1DC45-FEE4-4FA3-B11D-A0F2CF1D1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