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84703"/>
        <c:axId val="23526988"/>
      </c:barChart>
      <c:catAx>
        <c:axId val="87784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26988"/>
        <c:crosses val="autoZero"/>
        <c:auto val="1"/>
        <c:lblAlgn val="ctr"/>
        <c:lblOffset val="100"/>
        <c:noMultiLvlLbl val="0"/>
      </c:catAx>
      <c:valAx>
        <c:axId val="23526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84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D5B-EE7C-4CC8-8612-82474A43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E85-1EFD-4462-9C56-4E74D05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87C-8085-48A9-B8EB-154F4548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6BA-75E1-4F28-A639-01521E7D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171-5D9E-4787-890D-B570813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DD3-2C88-46A6-A36A-ED1B6973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137-CD16-4BB0-8B57-E3DDDF1B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88E-E295-4EEA-B3B5-23DAE6C6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296-03E1-4C0D-B1E1-19B66B5B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E2A-5CFB-4D8C-BD1F-9678758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828-1810-43AD-96B3-AB886208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2F3-17D7-4657-879C-4165962C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C5E25-6953-4943-9B43-74186B44B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